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2B4-3BF4-4C5B-9401-BF9E2E45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8075-340A-446B-B36C-F4E2E9A1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337-FD6A-44CE-8FD1-4720158D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21A-9119-47F9-99D5-F5C1C95C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9717-C283-4D84-96D1-846EF0EB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CCE3-21CC-480A-939B-79326038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5AE8-ED2D-425E-A997-7D5F97D3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0FB7-11BB-4025-99FB-02883998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C3BD-869B-4AF9-A1AA-D695B302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8E3D-4CE0-431C-9999-D79A0715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3944-A9BE-410C-AF8B-4FE17360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E66-6680-4771-90DC-9076C222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C36A-4A20-4364-A2D8-E4C92E49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F4C3-8C71-4AE8-9D23-3C706F85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38A9-D8B2-42CF-8862-C7481682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1AA9-7D85-4FCE-988F-8CDF320A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18DB-FBE6-4351-9B67-DD6166D9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17A-28DD-4C94-B6D6-8213FE8E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36C0-8CD6-4B33-A77C-262D3BEE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519-A3A7-489C-9294-94980374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D39-AE08-494C-8C83-595AB31F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BA8-32CF-4394-9579-2319E1DF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B401-B547-4686-84A4-0471CFC7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8F4-10E2-41AF-AB47-7E836DBC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16BF-C835-4725-95F8-4E5B31DD9E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2075-4D02-478A-A996-39E747C39C5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e Conditionnel Passé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rançais IV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ast Conditional = Conditional Perfect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Le conditionnel passé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in French consists of the conditional form of the auxillary verb (avoir or etre) plus a past participl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s verb translates as “would have/ should have / could have done something”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orm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VOIR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J’aurais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ous aurio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u aurais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ous auriez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l/elle/on aurait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ls/elles auraie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+ a past particip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X: I would have finished my homework, but I had to work after schoo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J’aurais fini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 mes devoirs, mais j’avais dû travailler après l’écol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ormation, cont’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TRE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J’serais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ous serio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u serais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ous seriez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l/elle/on serait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ls/elles seraie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+ a past particip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X: She would have gone out with him if he hadn’t stood her up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Elle serait sortie avec lui si il ne l’avait pas posé de lapin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mmon Us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st conditional is very often used with the following expression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You should have…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Tu aurais dû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(or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you shouldn’t have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– tu n’aurais pas dû…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You could have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 Tu aurais pu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i Claus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 French, there are clauses that are the equivalent of “if…then” clauses in English.  In the perfect tenses,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si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lauses are formed by following this pattern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plus-que-parfait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n the 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LAUSE (if…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conditionnel passé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n the MAIN CLAUSE (then…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lus-que-Parfai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member: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plus-que-parfait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s formed by using the IMPARFAIT of avoir/etre plus a past particip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VOIR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TRE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em: av-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em: ét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PLUS -ais, ais, ait, ions, iez, aient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X: J’avais fini – I had finish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lle était sortie – she had gone ou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i Clause Exampl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 j’avais étudié pour mon examen, je l’aurais réussi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thilde serait allée au concert si nous lui avions telephoné plus tô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u aurais dû telephoner à tes parents si tu avais su que tu serais en retard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3:00:16Z</dcterms:created>
  <dc:creator>corinne.hayes</dc:creator>
  <dc:description/>
  <dc:language>en-US</dc:language>
  <cp:lastModifiedBy>pluckett</cp:lastModifiedBy>
  <dcterms:modified xsi:type="dcterms:W3CDTF">2014-04-11T15:49:09Z</dcterms:modified>
  <cp:revision>3</cp:revision>
  <dc:subject/>
  <dc:title>Le Conditionnel Passé</dc:title>
</cp:coreProperties>
</file>